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8.wmf" ContentType="image/x-wmf"/>
  <Override PartName="/ppt/media/image13.png" ContentType="image/png"/>
  <Override PartName="/ppt/media/image12.jpeg" ContentType="image/jpeg"/>
  <Override PartName="/ppt/media/image7.wmf" ContentType="image/x-wmf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5.jpeg" ContentType="image/jpeg"/>
  <Override PartName="/ppt/media/image6.png" ContentType="image/png"/>
  <Override PartName="/ppt/media/image11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7283B-1F76-4D9F-BD73-E19EB91409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7FBB2-0C2E-40F3-8096-EEB4D223BD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BD8F2-6D6D-4905-8D0D-7E9B2BEE6D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0FD7A-0696-476B-8170-6CDD749466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26AA8-7E93-4191-8BD5-74D77A8372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79A06-4FEE-4718-A1C0-02F18C9BD7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5E17B-41A8-486D-A627-BA1B8AE4E8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E3DEB-2B5D-42BA-A464-99B1596A9C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450BA-B61F-47D2-956D-015B79C00A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4862D-60F9-4D6E-B059-5582DFD4EF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E1975-8DD7-4AC3-8C23-BDE4BCE8FB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48EB6-AB0D-4535-9207-65E377EE7B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A78AF-815A-4BE6-B88A-AECB6F3636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1E15F-6B95-44D1-A03D-8BB7DE7944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C30A1-5595-4031-A2FA-04113004D1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5D0EE4-0F1F-4C5D-9EFC-E49B631DEA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78D5B9-1E7F-4BF3-A56A-487BED5DEA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55212D-6931-4CD2-A043-D8DE147172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57F6E1-38F0-4339-A8E3-2844D5EFA7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9536A-F664-4D18-BC7C-9E861DB8FD7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A0C94-F8F5-4C8C-A297-89F32BCC463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ADFF8-B579-4F07-858A-69A1635C5FF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2749C-4D21-4FCB-898D-A0D001B5DC8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E1DE1-7235-4FFE-BCA9-EE8701596E1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53352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D06BF-CCE0-43DE-9446-4CC041CBE77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667A1-6921-4F63-82FE-C48C6C0C7B3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3D10DF-E723-4178-BEBD-D78E2186E8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0962D-FEBC-4825-86FA-727C3B06D93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7F4EE-84D1-49CD-892E-9DDC42E29CF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82A31-B06E-4F98-8248-E0A1319D24F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62FE6-793B-4243-93B9-957DA37018E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70950-61CE-419E-80B7-8473081F84F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115B99-6C91-4AEC-A473-32DE1A06AF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C8DAF5-2836-405B-BE1D-2C92D14EAB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4F6EA2-45D4-4138-B71B-707371A708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3352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843542-FA7B-4562-9E6B-F08730F81C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CAB810-9236-4E55-BD1E-2A6D52BAD2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3B5412-A680-476B-986D-5EE52CA6B4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B723A4-FAFE-4B5A-906D-71326AC56E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E8FBC-5990-4AA3-A69F-F81B2F348AE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BA776-6AE2-485E-B4C0-A94C30E5309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600" spc="-1" strike="noStrike">
                <a:solidFill>
                  <a:srgbClr val="ffffff"/>
                </a:solidFill>
                <a:latin typeface="Verdana"/>
              </a:rPr>
              <a:t>Quality Control of Antimicrobial Susceptibility Tests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F0BC0-CDC6-42D6-8F30-6FE2187F9E8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lection of a Colony to Tes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984C5-6762-4665-B60F-479530FCD2B5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Object 2"/>
          <p:cNvGraphicFramePr/>
          <p:nvPr/>
        </p:nvGraphicFramePr>
        <p:xfrm>
          <a:off x="1220760" y="1752480"/>
          <a:ext cx="670248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0760" y="1752480"/>
                    <a:ext cx="670248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4C76CD-DF53-4298-AC00-99415362CCB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cFarland 0.5 and </a:t>
            </a: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djusted Test Organis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51A37-5747-43BB-9F7A-7C57394BDE66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Object 2"/>
          <p:cNvGraphicFramePr/>
          <p:nvPr/>
        </p:nvGraphicFramePr>
        <p:xfrm>
          <a:off x="1220760" y="1752480"/>
          <a:ext cx="670248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0760" y="1752480"/>
                    <a:ext cx="670248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0DFB62-2B11-49BD-B143-D9D034E1A63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94710-28CD-47E2-9C28-C603462B6BEA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Use of Disk Dispenser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648320" cy="44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practical, rapi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crease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Arial Unicode MS"/>
              </a:rPr>
              <a:t>reproducibil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Risks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contamin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reduces personal judgment skil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5" name="Picture 4" descr="distributeur"/>
          <p:cNvPicPr/>
          <p:nvPr/>
        </p:nvPicPr>
        <p:blipFill>
          <a:blip r:embed="rId1"/>
          <a:stretch/>
        </p:blipFill>
        <p:spPr>
          <a:xfrm>
            <a:off x="5105520" y="2057400"/>
            <a:ext cx="3886200" cy="3265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43ACCA-3B43-4AA8-AB26-DB3AE2033CE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4F671-9026-4A94-8A14-3ED66BE74C3E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Disk Susceptibility Testing Problem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58" name="Picture 12" descr="Too Heavy"/>
          <p:cNvPicPr/>
          <p:nvPr/>
        </p:nvPicPr>
        <p:blipFill>
          <a:blip r:embed="rId1"/>
          <a:stretch/>
        </p:blipFill>
        <p:spPr>
          <a:xfrm>
            <a:off x="304920" y="1447920"/>
            <a:ext cx="8381880" cy="4495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A7B1E2-A748-4DAB-A74E-E141A89711F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Disk Susceptibility Testing Problem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60" name="Picture 5" descr="Disk moved"/>
          <p:cNvPicPr/>
          <p:nvPr/>
        </p:nvPicPr>
        <p:blipFill>
          <a:blip r:embed="rId1"/>
          <a:stretch/>
        </p:blipFill>
        <p:spPr>
          <a:xfrm>
            <a:off x="533520" y="1447920"/>
            <a:ext cx="7734240" cy="498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CF7CEE-3D2E-45B1-B190-4323E450172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18EF5-AD73-4D69-893F-F31E49C3FBF1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2" descr="pied_coulisse-calliper"/>
          <p:cNvPicPr/>
          <p:nvPr/>
        </p:nvPicPr>
        <p:blipFill>
          <a:blip r:embed="rId1"/>
          <a:stretch/>
        </p:blipFill>
        <p:spPr>
          <a:xfrm>
            <a:off x="457200" y="1371600"/>
            <a:ext cx="3276720" cy="259704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Measuring Condi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64" name="Picture 7" descr="Antibiot"/>
          <p:cNvPicPr/>
          <p:nvPr/>
        </p:nvPicPr>
        <p:blipFill>
          <a:blip r:embed="rId2"/>
          <a:stretch/>
        </p:blipFill>
        <p:spPr>
          <a:xfrm>
            <a:off x="5791320" y="1219320"/>
            <a:ext cx="1973160" cy="266688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8"/>
          <p:cNvSpPr/>
          <p:nvPr/>
        </p:nvSpPr>
        <p:spPr>
          <a:xfrm>
            <a:off x="6577560" y="403848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u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9"/>
          <p:cNvSpPr/>
          <p:nvPr/>
        </p:nvSpPr>
        <p:spPr>
          <a:xfrm>
            <a:off x="2094120" y="4114800"/>
            <a:ext cx="13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lip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10"/>
          <p:cNvSpPr/>
          <p:nvPr/>
        </p:nvSpPr>
        <p:spPr>
          <a:xfrm>
            <a:off x="304920" y="4572000"/>
            <a:ext cx="8458200" cy="175248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read with good light, and from the back of the p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zone size reading is drug specifi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agnification may hel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illimeters mat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8" name="Object 9"/>
          <p:cNvGraphicFramePr/>
          <p:nvPr/>
        </p:nvGraphicFramePr>
        <p:xfrm>
          <a:off x="2438280" y="1905120"/>
          <a:ext cx="3117960" cy="2104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38280" y="1905120"/>
                    <a:ext cx="3117960" cy="21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7441DB-91C6-4F23-9F8E-4C9760C502D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test – antimicrobial gradient method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BD074-5D6E-4EEE-88ED-59248B625C77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2" descr="CO04-2351 Etest blood cult isolate 2"/>
          <p:cNvPicPr/>
          <p:nvPr/>
        </p:nvPicPr>
        <p:blipFill>
          <a:blip r:embed="rId1"/>
          <a:stretch/>
        </p:blipFill>
        <p:spPr>
          <a:xfrm>
            <a:off x="1554120" y="1752480"/>
            <a:ext cx="603576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01E927-B3FC-456A-8116-C539AFC2975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atient results may be incorrect if: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organism was misidentifi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clerical error was mad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appropriate choice of antimicrobials were tested and report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wrong patient’s sample was examin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wrong test was order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sample was not preserved proper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9170E3-202C-4674-9EBA-5DEE5ADF3F4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894FD-683F-4053-A5E8-D2B7A9187527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ntimicrobial Susceptibility Tes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14" name="Picture 4" descr="k_b"/>
          <p:cNvPicPr/>
          <p:nvPr/>
        </p:nvPicPr>
        <p:blipFill>
          <a:blip r:embed="rId1"/>
          <a:stretch/>
        </p:blipFill>
        <p:spPr>
          <a:xfrm>
            <a:off x="457200" y="1600200"/>
            <a:ext cx="1714680" cy="16686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Staphylococcus_aureus_Etest2"/>
          <p:cNvPicPr/>
          <p:nvPr/>
        </p:nvPicPr>
        <p:blipFill>
          <a:blip r:embed="rId2"/>
          <a:stretch/>
        </p:blipFill>
        <p:spPr>
          <a:xfrm>
            <a:off x="2362320" y="1600200"/>
            <a:ext cx="1676160" cy="16765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8" descr="micmlc2"/>
          <p:cNvPicPr/>
          <p:nvPr/>
        </p:nvPicPr>
        <p:blipFill>
          <a:blip r:embed="rId3"/>
          <a:stretch/>
        </p:blipFill>
        <p:spPr>
          <a:xfrm>
            <a:off x="4114800" y="1600200"/>
            <a:ext cx="2209680" cy="17496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0" descr="vitek-2"/>
          <p:cNvPicPr/>
          <p:nvPr/>
        </p:nvPicPr>
        <p:blipFill>
          <a:blip r:embed="rId4"/>
          <a:stretch/>
        </p:blipFill>
        <p:spPr>
          <a:xfrm>
            <a:off x="6400800" y="1600200"/>
            <a:ext cx="2362320" cy="177012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11"/>
          <p:cNvSpPr/>
          <p:nvPr/>
        </p:nvSpPr>
        <p:spPr>
          <a:xfrm>
            <a:off x="871920" y="4114800"/>
            <a:ext cx="6976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vide information for selection of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 appropriate agent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timicrobial thera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B3E03A-B5EA-4F0A-9150-7585D5EB54B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ST Methods Interpret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gar disk diffusion method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provides qualitative interpretive category results of susceptible, intermediate, and resista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icrodilution and agar gradient diffusion methods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provide a quantitative result, a minimum inhibitory concentration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494844-52B8-4C85-87FF-20B2ED64D41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PBL Susceptibility testing 2008"/>
          <p:cNvPicPr/>
          <p:nvPr/>
        </p:nvPicPr>
        <p:blipFill>
          <a:blip r:embed="rId1"/>
          <a:srcRect l="4364" t="8470" r="5455" b="8470"/>
          <a:stretch/>
        </p:blipFill>
        <p:spPr>
          <a:xfrm>
            <a:off x="685800" y="1143000"/>
            <a:ext cx="7558200" cy="522756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762120" y="457200"/>
            <a:ext cx="61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ST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4F9FE8-8E91-4D54-8201-182B6C616949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lide Number Placeholder 1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0D6EC-A2ED-44AD-AC0C-5371091DA8D4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457200" y="2819520"/>
            <a:ext cx="2708280" cy="350496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125" name="Text Box 3"/>
          <p:cNvSpPr/>
          <p:nvPr/>
        </p:nvSpPr>
        <p:spPr>
          <a:xfrm>
            <a:off x="304920" y="1295280"/>
            <a:ext cx="8076960" cy="13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nical and Laboratory Standards  Instit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rench Society of Microbi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ritish Society for Antimicrobial Chemothera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7" descr=""/>
          <p:cNvPicPr/>
          <p:nvPr/>
        </p:nvPicPr>
        <p:blipFill>
          <a:blip r:embed="rId2"/>
          <a:stretch/>
        </p:blipFill>
        <p:spPr>
          <a:xfrm>
            <a:off x="6172200" y="2819520"/>
            <a:ext cx="2503440" cy="3504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aphicFrame>
        <p:nvGraphicFramePr>
          <p:cNvPr id="127" name="Object 6"/>
          <p:cNvGraphicFramePr/>
          <p:nvPr/>
        </p:nvGraphicFramePr>
        <p:xfrm>
          <a:off x="3429000" y="2819520"/>
          <a:ext cx="2639880" cy="3504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8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819520"/>
                    <a:ext cx="2639880" cy="3504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29" name=""/>
          <p:cNvSpPr/>
          <p:nvPr/>
        </p:nvSpPr>
        <p:spPr>
          <a:xfrm>
            <a:off x="685800" y="457200"/>
            <a:ext cx="36576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EC90B1-1B25-4827-B548-DA0DD8ECDED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Example from an excerpt from Reference:</a:t>
            </a:r>
            <a:br>
              <a:rPr sz="28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lection of Drug to Tes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2B818-A439-40AA-A2F8-52702A2AB624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" name="Object 2"/>
          <p:cNvGraphicFramePr/>
          <p:nvPr/>
        </p:nvGraphicFramePr>
        <p:xfrm>
          <a:off x="380880" y="1981080"/>
          <a:ext cx="8272440" cy="377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981080"/>
                    <a:ext cx="8272440" cy="377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744BF6-120A-4B66-9013-79A91AE1DBA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8C75E-5E8B-4492-885A-23CB538FF670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ere errors can occur in susceptibility tes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edia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antimicrobial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oculum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cub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equipment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terpret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8D603F-B634-453F-B01D-FB1D739F29F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E6288-BC06-4FD5-9E18-619BF3DFFC9B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gar disk diffusion method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8458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ediu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 Mueller Hinto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4 mm thicknes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pH 7.2 to 7.4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tibiotic          storage    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20</a:t>
            </a:r>
            <a:r>
              <a:rPr b="0" lang="en-US" sz="2400" spc="-1" strike="noStrike" baseline="40000">
                <a:solidFill>
                  <a:srgbClr val="000000"/>
                </a:solidFill>
                <a:latin typeface="Verdan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 minimu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ks                temperatu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oculu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cFarland 0.5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(10</a:t>
            </a:r>
            <a:r>
              <a:rPr b="0" lang="en-GB" sz="2400" spc="-1" strike="noStrike" baseline="30000">
                <a:solidFill>
                  <a:srgbClr val="000000"/>
                </a:solidFill>
                <a:latin typeface="Verdana"/>
              </a:rPr>
              <a:t>8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bacteria/mL)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Incubator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        temperature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35</a:t>
            </a:r>
            <a:r>
              <a:rPr b="0" lang="en-GB" sz="2400" spc="-1" strike="noStrike" baseline="30000">
                <a:solidFill>
                  <a:srgbClr val="000000"/>
                </a:solidFill>
                <a:latin typeface="Verdana"/>
              </a:rPr>
              <a:t>o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tmosphere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mbient ai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192153-D4A6-4DF6-9B28-0C91D424258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11AA2-B5D8-4446-813C-653114064702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Reference Strai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Verdana"/>
              </a:rPr>
              <a:t>E. coli 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ATCC 25922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Verdana"/>
              </a:rPr>
              <a:t>S. aureus 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ATCC 25923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Verdana"/>
              </a:rPr>
              <a:t>P. aeruginosa 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ATCC 27853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"/>
          <p:cNvSpPr/>
          <p:nvPr/>
        </p:nvSpPr>
        <p:spPr>
          <a:xfrm>
            <a:off x="685800" y="3886200"/>
            <a:ext cx="807732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C organisms must be obtained from reputable source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specific QC organisms to test different groups of “drug-bug” combin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0132B7-4DCE-485D-B510-2F0568A2151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8T06:56:40Z</dcterms:created>
  <dc:creator>Robin Barteluk</dc:creator>
  <dc:description/>
  <dc:language>en-US</dc:language>
  <cp:lastModifiedBy>Robin Barteluk</cp:lastModifiedBy>
  <dcterms:modified xsi:type="dcterms:W3CDTF">2008-12-02T03:54:50Z</dcterms:modified>
  <cp:revision>7</cp:revision>
  <dc:subject/>
  <dc:title>Microbiology QC</dc:title>
</cp:coreProperties>
</file>